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B05CC-BF6C-4CB1-B71C-EDAA36408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8957E-2AF3-46AC-85BA-8960D23C7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419A2-1E03-4E2D-9F73-12E6742E1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DD1C8-ED4F-473C-82EE-6691E9A31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8FBC7-1E84-4A4B-A9F4-ECE7A2518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F9D9B-053B-4585-86FF-589BFF69C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03D7B-2765-49CC-B268-B27554362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2A41F-72E7-49DD-9CD3-748821808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02D51-D330-46C5-ABD1-7AC8565DF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263D9-3C40-4F37-8619-B4C677764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74C5D-FC3E-44CC-9C10-A790B1909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FA291-AB57-4057-8D28-31D813C6D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16D7A-2204-47C9-973C-ADB27B690E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5.wmf"/><Relationship Id="rId8" Type="http://schemas.openxmlformats.org/officeDocument/2006/relationships/image" Target="../media/image5.wmf"/><Relationship Id="rId9" Type="http://schemas.openxmlformats.org/officeDocument/2006/relationships/image" Target="../media/image5.wmf"/><Relationship Id="rId10" Type="http://schemas.openxmlformats.org/officeDocument/2006/relationships/image" Target="../media/image5.wmf"/><Relationship Id="rId11" Type="http://schemas.openxmlformats.org/officeDocument/2006/relationships/image" Target="../media/image5.wmf"/><Relationship Id="rId12" Type="http://schemas.openxmlformats.org/officeDocument/2006/relationships/image" Target="../media/image6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5.wmf"/><Relationship Id="rId1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0728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7200" spc="-1" strike="noStrike">
                <a:solidFill>
                  <a:srgbClr val="000000"/>
                </a:solidFill>
                <a:latin typeface="Arial"/>
              </a:rPr>
              <a:t>collective noun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55640" y="1628640"/>
            <a:ext cx="863640" cy="7178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148360" y="4508640"/>
            <a:ext cx="424800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611280" y="3213000"/>
            <a:ext cx="1295280" cy="9716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95280" y="3141720"/>
            <a:ext cx="828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1557360"/>
            <a:ext cx="8282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78000" y="2427120"/>
            <a:ext cx="174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Looks like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50920" y="4221000"/>
            <a:ext cx="19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Sounds like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95280" y="4797360"/>
            <a:ext cx="835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6021360"/>
            <a:ext cx="165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Feels like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539640" y="4870440"/>
            <a:ext cx="808200" cy="8190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1116000" y="5157720"/>
            <a:ext cx="792000" cy="6350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724360" y="1700280"/>
            <a:ext cx="2087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050920" y="3500280"/>
            <a:ext cx="6518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NZ" sz="6600" spc="-1" strike="noStrike">
                <a:solidFill>
                  <a:srgbClr val="333399"/>
                </a:solidFill>
                <a:latin typeface="Arial"/>
              </a:rPr>
              <a:t> collect</a:t>
            </a:r>
            <a:r>
              <a:rPr b="1" lang="en-NZ" sz="4400" spc="-1" strike="noStrike">
                <a:solidFill>
                  <a:srgbClr val="000000"/>
                </a:solidFill>
                <a:latin typeface="Arial"/>
              </a:rPr>
              <a:t>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050920" y="2565360"/>
            <a:ext cx="28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NZ" sz="3200" spc="-1" strike="noStrike">
                <a:solidFill>
                  <a:srgbClr val="333399"/>
                </a:solidFill>
                <a:latin typeface="Arial"/>
              </a:rPr>
              <a:t>school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of fi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68360" y="4941720"/>
            <a:ext cx="6480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Belonging to a </a:t>
            </a:r>
            <a:r>
              <a:rPr b="1" lang="en-NZ" sz="3200" spc="-1" strike="noStrike">
                <a:solidFill>
                  <a:srgbClr val="333399"/>
                </a:solidFill>
                <a:latin typeface="Arial"/>
              </a:rPr>
              <a:t>team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, being a part of a </a:t>
            </a:r>
            <a:r>
              <a:rPr b="1" lang="en-NZ" sz="3200" spc="-1" strike="noStrike">
                <a:solidFill>
                  <a:srgbClr val="333399"/>
                </a:solidFill>
                <a:latin typeface="Arial"/>
              </a:rPr>
              <a:t>group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, being in a </a:t>
            </a: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committee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, being part of the </a:t>
            </a:r>
            <a:r>
              <a:rPr b="1" lang="en-NZ" sz="3200" spc="-1" strike="noStrike">
                <a:solidFill>
                  <a:srgbClr val="333399"/>
                </a:solidFill>
                <a:latin typeface="Arial"/>
              </a:rPr>
              <a:t>herd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5"/>
          <a:stretch/>
        </p:blipFill>
        <p:spPr>
          <a:xfrm>
            <a:off x="2124000" y="1628640"/>
            <a:ext cx="608040" cy="6480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6"/>
          <a:stretch/>
        </p:blipFill>
        <p:spPr>
          <a:xfrm>
            <a:off x="7812000" y="1557360"/>
            <a:ext cx="1024200" cy="784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7"/>
          <a:stretch/>
        </p:blipFill>
        <p:spPr>
          <a:xfrm>
            <a:off x="2340000" y="1844640"/>
            <a:ext cx="608040" cy="6476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8"/>
          <a:stretch/>
        </p:blipFill>
        <p:spPr>
          <a:xfrm>
            <a:off x="2556000" y="2060640"/>
            <a:ext cx="608040" cy="6476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9"/>
          <a:stretch/>
        </p:blipFill>
        <p:spPr>
          <a:xfrm>
            <a:off x="3564000" y="1700280"/>
            <a:ext cx="608040" cy="647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10"/>
          <a:stretch/>
        </p:blipFill>
        <p:spPr>
          <a:xfrm>
            <a:off x="3059280" y="1844640"/>
            <a:ext cx="607680" cy="6476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11"/>
          <a:stretch/>
        </p:blipFill>
        <p:spPr>
          <a:xfrm>
            <a:off x="2843280" y="1557360"/>
            <a:ext cx="608040" cy="6476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12"/>
          <a:stretch/>
        </p:blipFill>
        <p:spPr>
          <a:xfrm>
            <a:off x="5580000" y="1484280"/>
            <a:ext cx="1023840" cy="7840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13"/>
          <a:stretch/>
        </p:blipFill>
        <p:spPr>
          <a:xfrm>
            <a:off x="6227640" y="1557360"/>
            <a:ext cx="1024200" cy="7840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14"/>
          <a:stretch/>
        </p:blipFill>
        <p:spPr>
          <a:xfrm>
            <a:off x="6877080" y="1628640"/>
            <a:ext cx="1023840" cy="78444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5580000" y="2492280"/>
            <a:ext cx="30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NZ" sz="3200" spc="-1" strike="noStrike">
                <a:solidFill>
                  <a:srgbClr val="333399"/>
                </a:solidFill>
                <a:latin typeface="Arial"/>
              </a:rPr>
              <a:t>flock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of bi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5"/>
          <a:stretch/>
        </p:blipFill>
        <p:spPr>
          <a:xfrm>
            <a:off x="3924360" y="1916280"/>
            <a:ext cx="60804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5T07:55:22Z</dcterms:created>
  <dc:creator>Ministry of Education</dc:creator>
  <dc:description/>
  <dc:language>en-US</dc:language>
  <cp:lastModifiedBy>Ministry of Education</cp:lastModifiedBy>
  <dcterms:modified xsi:type="dcterms:W3CDTF">2007-04-21T10:16:03Z</dcterms:modified>
  <cp:revision>24</cp:revision>
  <dc:subject/>
  <dc:title>Simile</dc:title>
</cp:coreProperties>
</file>